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EBCCF8-49FC-4219-9754-442137737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677-1EF3-4009-B936-5A05B041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A9A-A7C5-4824-B609-5B18275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BC9-AC8C-4DE2-B28D-216ADE80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171-7034-45E9-9F6A-40A88CF8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537B-5773-41BA-9DAD-584307C4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0A1-72E9-43BC-BFD9-EEB2D525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62B-E469-4C56-8FD9-735C769F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3E1-CE15-4CCF-839B-7A099A35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7AF-E767-4B19-9F94-4342530B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E00-5323-4D20-904D-A470BAEB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BDA-30AA-45F5-B56D-737D439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A6F-CFEE-402E-B552-733D30F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9A26-C049-47B0-A335-E62D7E352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RomaK</cp:lastModifiedBy>
  <cp:lastPrinted>2002-01-16T21:03:42Z</cp:lastPrinted>
  <dcterms:modified xsi:type="dcterms:W3CDTF">2015-09-04T09:30:34Z</dcterms:modified>
  <cp:revision>38</cp:revision>
  <dc:subject/>
  <dc:title>No Slide Title</dc:title>
</cp:coreProperties>
</file>